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31.wmf" ContentType="image/x-wmf"/>
  <Override PartName="/ppt/media/image12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1B73-2148-43C1-97C6-3A2DBA45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366-647F-491D-8AED-2B9F5EFC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55AB-1463-4ACD-B18C-BFC0FE06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741-E82D-45E8-B5A4-309F59B4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25A-A596-40F9-BC5B-AB231F57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092A-709E-47BC-A3FB-4067ACA7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B10-631E-42D4-A031-A4DD53D3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A44-24E8-4225-94AB-1FF87C68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CAA6-BA5C-4608-AA2E-30D6BE53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EDD-7C0E-4633-A44D-47C24AED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A37-BD82-4F5C-B029-B9501CF0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49C5-1CC6-49FD-B3BC-F16C377B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C5D34-34AA-486A-8C20-BACBC3EF4F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79640" y="2160720"/>
            <a:ext cx="810072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"/>
              </a:rPr>
              <a:t>L'alimenta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ment est 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59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 plat e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440000" y="2340000"/>
          <a:ext cx="6688080" cy="4096800"/>
        </p:xfrm>
        <a:graphic>
          <a:graphicData uri="http://schemas.openxmlformats.org/drawingml/2006/table">
            <a:tbl>
              <a:tblPr/>
              <a:tblGrid>
                <a:gridCol w="2230200"/>
                <a:gridCol w="2229120"/>
                <a:gridCol w="222876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l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 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cour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uv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op / Pas ass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é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ré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picé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ud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id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r/amè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087640" y="2411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27640" y="2411280"/>
            <a:ext cx="93672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0360" y="360360"/>
            <a:ext cx="93600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Phras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0720" y="1800360"/>
            <a:ext cx="900108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J'ai faim /Je n'ai plus faim / J’ai très fa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J'ai soif / Je n’ai plus soif / J’ai très soi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Qu'est-ce qu'on m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On mange de la pizza. / On ne mange pas de piz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u veux du poulet? Oui, j'en veux. / Non, je n'en veux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Je prépare le rep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Je mets la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u restau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59320" cy="4988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Le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Garçon, s’il vous plaî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Je voudra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Je vais prend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Qu’est-ce qu’il y a dan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’addition, s’il vous plaî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4520" y="1768320"/>
            <a:ext cx="4459320" cy="49881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Le serveur / La serv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Bonjour madame / monsi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Que désirez-vo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Avez-vous chois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Et comme 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Ça fait … eu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Merci, madame / monsi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Au revo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60360" y="1979640"/>
            <a:ext cx="792000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00000" y="539640"/>
            <a:ext cx="8280360" cy="62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bes (prés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nger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 man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 b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 man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 b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 / elle / on man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/ell/on bo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s ma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s buv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us man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us bu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s/elles mang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s/elles boi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endre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oul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 pren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 v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 pren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 v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/elle/on pr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/elle/on ve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s pren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s voul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us prenez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us vou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s/elles prenn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s/elles veu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00000" y="360360"/>
            <a:ext cx="8280360" cy="62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bes (prés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imer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é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'a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 dét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 aim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 déte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/Elle/on a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/elle/on dét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s aim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s détes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us aimez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us détes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s/elles ai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s/elles déte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éférer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d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 préfè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'ad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 préfè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 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/elle/on préfè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/elle/on ad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s préfér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s ado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us préférez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us ado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s/elles préfèr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s/elles ado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20720" y="539640"/>
            <a:ext cx="9001080" cy="59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'Impéra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l n'a que trois personnes: 2ème du singu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ère du plu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ème du plu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l est formé par le pré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l n'a pas de pronoms suj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es verbes en -ER n'utilisent pas le -S au 2ème personne du singuil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 négation suit le schèma suiv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e à l'impérat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79640" y="360360"/>
            <a:ext cx="828036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bes (impérati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nger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v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gez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endre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ans impérat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n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n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é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nez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ul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é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 mange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 buvons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 prenez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20720" y="720720"/>
            <a:ext cx="882000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rticles Parti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617920" y="1739880"/>
            <a:ext cx="5075280" cy="2008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20720" y="3959280"/>
            <a:ext cx="900108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ention! À la négative = 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mp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Je veux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u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poulet / Je ne veux pas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poul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Je veux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e la pizz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/ Je ne veux pas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pi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Je veux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e l'eau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/ Je ne veux pas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'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a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Je veux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frites / Je ne veux pas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fri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9640" y="720720"/>
            <a:ext cx="864072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rticles parti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ican una cantidad no defin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os verbos que suelen usar los partitivos s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ire, vouloir, prendre, il y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00000" y="2519280"/>
            <a:ext cx="8280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résum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9640" y="720720"/>
            <a:ext cx="900108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pronom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mplace les compliments introduits par DU, DE LA, DE L', DES, 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e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vant le ver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veu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 poulet 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a sal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Non, il n'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p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9640" y="720720"/>
            <a:ext cx="900108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pronom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mplace les compliments introduits par DU, DE LA, DE L', DES, 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e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vant le ver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veu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 poulet 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a sal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Non, il n'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p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0360" y="360360"/>
            <a:ext cx="90010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quant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900000"/>
            <a:ext cx="9360000" cy="62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es quantités jus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kilo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litre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e bouteill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demi kilo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demi litre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verr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 grammes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e tablette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e cuillèr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es quantités impréci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aucoup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z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u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s beaucoup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s assez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s pouvons aussi utiliser les articles partitifs pour indiquer une quantité impré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ention!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s utilisons toujours DE après les quantités justes ou après des adverbes de quant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79640" y="720720"/>
            <a:ext cx="81007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Les repa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2305080"/>
            <a:ext cx="8820360" cy="32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petit-déjeuner (le matin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rendre le petit-déjeu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déjeuner (midi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éjeu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goûter (l'après-midi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oû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dîner (le soir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î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0720" y="720720"/>
            <a:ext cx="84596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Le mén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lat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des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boi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539640"/>
            <a:ext cx="90010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Les légum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5000" y="2073240"/>
            <a:ext cx="1371600" cy="987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40000" y="2160720"/>
            <a:ext cx="39607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ar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43040" y="3419640"/>
            <a:ext cx="1057320" cy="1047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60720" y="3600360"/>
            <a:ext cx="16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ch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20720" y="4680000"/>
            <a:ext cx="990720" cy="142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60720" y="4859280"/>
            <a:ext cx="1620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harocots blan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39640" y="6300720"/>
            <a:ext cx="1305000" cy="809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60720" y="6300720"/>
            <a:ext cx="1620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haric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040360" y="2160720"/>
            <a:ext cx="1238040" cy="799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59640" y="2340000"/>
            <a:ext cx="234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petits p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241960" y="3328920"/>
            <a:ext cx="1238040" cy="99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59640" y="3419640"/>
            <a:ext cx="1800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pommes de 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232240" y="4680000"/>
            <a:ext cx="1247760" cy="1085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40360" y="4859280"/>
            <a:ext cx="1979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al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5219640" y="5867280"/>
            <a:ext cx="1123920" cy="1152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0360" y="6119640"/>
            <a:ext cx="2160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o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0360" y="539640"/>
            <a:ext cx="9180360" cy="13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Les fruit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01600" y="2160720"/>
            <a:ext cx="1238400" cy="819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00360" y="2160720"/>
            <a:ext cx="27003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abricot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60360" y="3240000"/>
            <a:ext cx="743040" cy="1295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700360" y="3780000"/>
            <a:ext cx="1800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an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977760" y="4938840"/>
            <a:ext cx="1362240" cy="1361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00360" y="5219640"/>
            <a:ext cx="144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ban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759280" y="2160720"/>
            <a:ext cx="1114560" cy="1190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199280" y="2340000"/>
            <a:ext cx="25210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e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6029280" y="3508200"/>
            <a:ext cx="990720" cy="1171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199280" y="3959280"/>
            <a:ext cx="180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fr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5759280" y="5219640"/>
            <a:ext cx="1219320" cy="1019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020000" y="5400720"/>
            <a:ext cx="1979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me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9640" y="360360"/>
            <a:ext cx="9180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Les fruits (2)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79640" y="1979640"/>
            <a:ext cx="1171440" cy="1081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19280" y="2340000"/>
            <a:ext cx="234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o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103400" y="3376440"/>
            <a:ext cx="1057320" cy="1124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19280" y="3419640"/>
            <a:ext cx="18003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168560" y="5219640"/>
            <a:ext cx="1171440" cy="876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19280" y="5400720"/>
            <a:ext cx="162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ê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5400720" y="1979640"/>
            <a:ext cx="1171440" cy="1314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020000" y="2160720"/>
            <a:ext cx="25207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5592600" y="3600360"/>
            <a:ext cx="1247760" cy="1019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20000" y="3780000"/>
            <a:ext cx="19796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o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5759280" y="4929120"/>
            <a:ext cx="85752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020000" y="5219640"/>
            <a:ext cx="18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rai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539640"/>
            <a:ext cx="9180720" cy="13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Les viand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00000" y="2160720"/>
            <a:ext cx="1800360" cy="1128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79640" y="2519280"/>
            <a:ext cx="28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ôtellette de po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158840" y="367992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879640" y="3973680"/>
            <a:ext cx="2700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hamburg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312920" y="5219640"/>
            <a:ext cx="847800" cy="1047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879640" y="5400720"/>
            <a:ext cx="1979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jambon bla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400720" y="3600360"/>
            <a:ext cx="1766880" cy="1081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380360" y="3780000"/>
            <a:ext cx="21603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ou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539640"/>
            <a:ext cx="9180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Les produits laitier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2340000"/>
            <a:ext cx="450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rè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20720" y="3240000"/>
            <a:ext cx="1620720" cy="106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700360" y="3419640"/>
            <a:ext cx="1800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fro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0000" y="4762440"/>
            <a:ext cx="900360" cy="1717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340000" y="5219640"/>
            <a:ext cx="1979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g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510160" y="1979640"/>
            <a:ext cx="971640" cy="1454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020000" y="2340000"/>
            <a:ext cx="234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l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580000" y="3962520"/>
            <a:ext cx="933480" cy="1438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0360" y="4500720"/>
            <a:ext cx="19796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yao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uario guadalinex</dc:creator>
  <dc:description/>
  <dc:language>en-US</dc:language>
  <cp:lastModifiedBy>Director</cp:lastModifiedBy>
  <dcterms:modified xsi:type="dcterms:W3CDTF">2013-02-20T10:56:08Z</dcterms:modified>
  <cp:revision>8</cp:revision>
  <dc:subject/>
  <dc:title>Diapositiva 1</dc:title>
</cp:coreProperties>
</file>